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D0E-BEF9-4FB2-BB4D-2FD835AD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D66-9B96-4FAB-98DB-10EFC15A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A50-EFCF-424A-A330-81250290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C4A-247A-462C-BEEF-680E8A29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146-3E3F-40DB-B950-683AD4C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3BB-F385-43F1-BBD5-74C31CA5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07C-1B8B-4E49-AA0D-6A832ED0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0BB-9304-415B-B5A2-9CD19F02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800-9FE3-44F1-A033-19EC3566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A53-3592-4359-8E4E-9FD62CEF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CF2-FE32-44C2-96FA-88B3E699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8C9-8A9D-46D7-A13C-D095D80A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4FD0-D680-47E1-9124-0D2F5272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3: Applications of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equalitie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Remember the 3 Method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y + 2x =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- 12y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+ 12y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two numbers is 59.  Their difference is 11.  What are the two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Identify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Write the system of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Eve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invested $400 in equipment to make t-shirts for her family reunion.  Each t-shirt costs $4 to print and sells for $15.  How many t-shirts must she sell before her small business breaks e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/Valu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taurant charges $1.30 for 1 biscuit and 2 eggs.  It charges $2.15 for 2 biscuits and 3 eggs.  What is the cost of each biscuit and eg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anie and Karen are saving money to purchase a stove for their mom.  Stephanie has $140 and deposits $30 each day.  Karen has $100 and deposits an additional $30 per day.  After how many days will the sisters have the same amount of money sa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ngth of a rectangle is 2 cm more than 4 times the width.  If the perimeter of the rectangle is 84 cm, what are the dim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52 people attended a ball game.  There were three times as many children as adults.  Set up a system of equations that represents the numbers of adults and children who attended the game and solve the system to find the number of children who were in the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a = c + 3; 39 adults and 25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a = 3c; 39 adults and 13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c = a + 3; 25 adults and 39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c = 3a; 13 adults and 39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has a pet-care job that pays $5 per hour.  She also does child care and charges $8 per hour.   She wants to earn at least $125 each week but does not want to work more than 20 hours.  Which situation would satisfy both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2 hours and child care for 8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4 hours and child care for 6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8 hours and child care for 12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0 hours and child care for 9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0:22:37Z</dcterms:created>
  <dc:creator>Sharon Fieldman</dc:creator>
  <dc:description/>
  <dc:language>en-US</dc:language>
  <cp:lastModifiedBy>sfieldman</cp:lastModifiedBy>
  <dcterms:modified xsi:type="dcterms:W3CDTF">2011-05-16T14:58:04Z</dcterms:modified>
  <cp:revision>16</cp:revision>
  <dc:subject/>
  <dc:title>Goal 4.03: Applications of Systems</dc:title>
</cp:coreProperties>
</file>